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A5C-3917-4FD3-A71E-E4BA4D71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23D-6CAD-4956-9245-B5F43D8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3F7-778D-47C6-8752-64225F29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4AB-F2FA-450B-93BD-2D6CA87A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357-3BB1-4055-8DD9-EA38728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391-D48A-45A3-9C11-0975FF1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F8E-5AC1-4758-BD8D-A7F48329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EFC-3620-44CE-947F-366F9BC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DAA-F62D-4AFB-AEDE-F48D8967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DEE-6002-4506-9128-B3E0823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2F8-CFC7-4D10-9F98-2899B26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FE1-378E-477E-8D63-7F9E70A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41A9-5E72-437B-81B5-15B8B9A8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csso.org/projects/Surveys_of_Enacted_Curriculum/" TargetMode="External"/><Relationship Id="rId3" Type="http://schemas.openxmlformats.org/officeDocument/2006/relationships/hyperlink" Target="http://www.secsupport.org/" TargetMode="External"/><Relationship Id="rId4" Type="http://schemas.openxmlformats.org/officeDocument/2006/relationships/hyperlink" Target="http://www.seconline.org/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f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use data to guide professional develop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have consistency across grade leve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know how well aligned your state standards were to the state assess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compare how you teach content compared to how others across the nation te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use anonymous teacher data to start a powerful school discussion about what the teacher needs 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6040" y="137160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Repeat steps 1 &amp; 2 for each content area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5920" y="2408400"/>
            <a:ext cx="524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Report time spent on topic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2: Report expectations for stud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4320" y="1511280"/>
            <a:ext cx="8146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 use of lesson plans, grade books, text, etc. to re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ic Coverage organized and reported by Content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umber Sense, Properties &amp; 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 Analysis, Statistics,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gebra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eometr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structional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gnitive Demand reported for each topic covered (e.g. ma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form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monstrate Understanding of Mathematical Id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jecture, Generalize, Pr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lve non-routine problems, make conn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38120" y="1971720"/>
          <a:ext cx="826776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971720"/>
                    <a:ext cx="82677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5680" y="12952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pape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33200" y="1619280"/>
          <a:ext cx="88776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619280"/>
                    <a:ext cx="88776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52760" y="152280"/>
            <a:ext cx="36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ent Ma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2360" y="1295280"/>
          <a:ext cx="8639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295280"/>
                    <a:ext cx="8639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8480" y="76320"/>
            <a:ext cx="75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comparisons of standards, assessme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ion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7040" y="318960"/>
            <a:ext cx="73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dditional information and resources, vis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3124080" y="1905120"/>
            <a:ext cx="40388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EC Collab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(Council of Chief State School Offic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/>
          </p:cNvPr>
          <p:cNvSpPr/>
          <p:nvPr/>
        </p:nvSpPr>
        <p:spPr>
          <a:xfrm>
            <a:off x="3114720" y="2986200"/>
            <a:ext cx="2664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C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(Learning Point Associ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/>
          </p:cNvPr>
          <p:cNvSpPr/>
          <p:nvPr/>
        </p:nvSpPr>
        <p:spPr>
          <a:xfrm>
            <a:off x="3128760" y="4191120"/>
            <a:ext cx="4085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Arial"/>
              </a:rPr>
              <a:t>SEC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(Wisconsin Center for Education Rese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ricolorSEClogo" descr=""/>
          <p:cNvPicPr/>
          <p:nvPr/>
        </p:nvPicPr>
        <p:blipFill>
          <a:blip r:embed="rId5"/>
          <a:stretch/>
        </p:blipFill>
        <p:spPr>
          <a:xfrm>
            <a:off x="2316240" y="2057400"/>
            <a:ext cx="635040" cy="566640"/>
          </a:xfrm>
          <a:prstGeom prst="rect">
            <a:avLst/>
          </a:prstGeom>
          <a:ln w="0">
            <a:noFill/>
          </a:ln>
        </p:spPr>
      </p:pic>
      <p:pic>
        <p:nvPicPr>
          <p:cNvPr id="92" name="tricolorSEClogo" descr=""/>
          <p:cNvPicPr/>
          <p:nvPr/>
        </p:nvPicPr>
        <p:blipFill>
          <a:blip r:embed="rId6"/>
          <a:stretch/>
        </p:blipFill>
        <p:spPr>
          <a:xfrm>
            <a:off x="2316240" y="3124080"/>
            <a:ext cx="635040" cy="567000"/>
          </a:xfrm>
          <a:prstGeom prst="rect">
            <a:avLst/>
          </a:prstGeom>
          <a:ln w="0">
            <a:noFill/>
          </a:ln>
        </p:spPr>
      </p:pic>
      <p:pic>
        <p:nvPicPr>
          <p:cNvPr id="93" name="tricolorSEClogo" descr=""/>
          <p:cNvPicPr/>
          <p:nvPr/>
        </p:nvPicPr>
        <p:blipFill>
          <a:blip r:embed="rId7"/>
          <a:stretch/>
        </p:blipFill>
        <p:spPr>
          <a:xfrm>
            <a:off x="2316240" y="4343400"/>
            <a:ext cx="6350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30477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Language Arts Reading, Mathematics, and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7632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6002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rveys of the Enacted Curriculu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1080" y="152280"/>
            <a:ext cx="710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llaborating Organiz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acher survey tool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data on what content is taught and how it is tau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reports indicating the degree of alignment between the taught (enacted) curriculum and state assessments or standa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data on teacher beliefs, readiness to teach the content and readiness to instruct special groups of stud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rich source of information to support teachers analysis of student learning challe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 can help your school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 curriculum, instruction, and assessment including vertical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instruction within and across grade level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professional development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teacher planning and development on instructional practice and its effects on studen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coaching and mentoring activity around content and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440" y="166680"/>
            <a:ext cx="80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line Survey Administ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60-90 minutes to comp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ompleted in multiple si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s saved as each section is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61" name="mthInputSample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62840" cy="519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4880" y="38088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data is saved each time you click on a Subm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4320" y="1511280"/>
            <a:ext cx="8146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 use of lesson plans, grade books, text, etc. to re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ic Coverage organized and reported by Content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umber Sense, Properties &amp; 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 Analysis, Statistics,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gebra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eometr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structional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gnitive Demand reported for each topic covered (e.g. ma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form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monstrate Understanding of Mathematical Id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jecture, Generalize, Pr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lve non-routine problems, make conn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00:27:19Z</dcterms:created>
  <dc:creator>Smithson</dc:creator>
  <dc:description/>
  <dc:language>en-US</dc:language>
  <cp:lastModifiedBy>Kari Augustine</cp:lastModifiedBy>
  <dcterms:modified xsi:type="dcterms:W3CDTF">2008-01-10T05:10:12Z</dcterms:modified>
  <cp:revision>15</cp:revision>
  <dc:subject/>
  <dc:title>PowerPoint Presentation</dc:title>
</cp:coreProperties>
</file>